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9DF1-C88D-4DA7-9DF4-C6515ED6B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1596-CF4B-42A5-AAC2-26456504C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A882-2999-432A-A2F9-19F12A7FE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F622-E2BD-4DD1-AD4C-FED73DA08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7E4A-B5E3-44F4-8D3C-17728F347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1498-9F40-4964-AA74-073BB6CA7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0CE1-07DF-48AE-B5DF-3C6893685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1804-06DD-4109-96AD-66F2FED2C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E016-CB36-4671-B98A-31F4F9216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6BA3-1D99-4853-AFDE-F74106CA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48BC-2CA2-4A45-AFC0-35D1CDBB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D378-F975-4C56-A596-E49349F5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844FEA-1947-4700-8EAD-3E5D10272EC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090A9A-777D-498C-B988-C487D57D01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71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                               a metal or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metal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                               a metal or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metal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                               a metal or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metal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                               a metal or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metal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                               a metal or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metal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                               a metal or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metal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                               a metal or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metal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                               a metal or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metal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                               a metal or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metal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                               a metal or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metal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                               a metal or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metal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                               a metal or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metal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family do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long to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family do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long to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family do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long to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family do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long to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family do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long to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family do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long to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family do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long to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family do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long to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family do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long to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family do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long to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family do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long to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family do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long to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00:42:25Z</dcterms:created>
  <dc:creator>Caroline Roth</dc:creator>
  <dc:description/>
  <dc:language>en-US</dc:language>
  <cp:lastModifiedBy>Caroline Roth</cp:lastModifiedBy>
  <cp:lastPrinted>2011-02-10T03:42:45Z</cp:lastPrinted>
  <dcterms:modified xsi:type="dcterms:W3CDTF">2011-03-30T22:24:57Z</dcterms:modified>
  <cp:revision>6</cp:revision>
  <dc:subject/>
  <dc:title>Slide 1</dc:title>
</cp:coreProperties>
</file>